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AC1-7C50-47E3-A227-792AC109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CA4-8C51-4DC1-93BC-E162218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63D-3DFA-4DDD-9A59-DBD5DC61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6AD-145D-47EA-AB0F-CC771220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9A3-F8F9-43C3-8196-CE28C540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5E8-93C5-4AEF-9E29-3C0927F0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649-62C0-4465-B55D-DAC320D0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A41-9C02-4ECA-9AFD-0F00225F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3FC-6C6E-40B1-96A1-BA19B477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B2A-B774-47FF-92EC-829029A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FA6-6DE2-4829-9E2A-A83C38F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EC5-FFAF-40BE-A443-87A63E77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D2A9-BFAC-4150-8A65-B83CF6099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4:28:48Z</dcterms:created>
  <dc:creator>Mount Lebanon School District</dc:creator>
  <dc:description/>
  <dc:language>en-US</dc:language>
  <cp:lastModifiedBy>Mount Lebanon School District</cp:lastModifiedBy>
  <dcterms:modified xsi:type="dcterms:W3CDTF">2010-03-03T14:29:57Z</dcterms:modified>
  <cp:revision>1</cp:revision>
  <dc:subject/>
  <dc:title>Slide 1</dc:title>
</cp:coreProperties>
</file>